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491-1238-4DA6-9EF4-5A54EE1A20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CC1-7C30-4A65-9D92-AE2095CC1FD4}" type="slidenum">
              <a:rPr b="0" lang="fr-FR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E7F-3125-4F8F-A7E7-6A59EEBCEFBA}" type="slidenum">
              <a:rPr b="0" lang="fr-FR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D6E-E429-4794-BC76-1AB10F62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539-66F8-4DE2-B9A2-E938F5DD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37D-E412-41EF-9691-5DC8247A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EBB-54B2-4F8B-9DA9-ED886D6D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8C1D-0022-4D60-A5A3-E7D27F5E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EC45-FA26-4E7C-8123-0247328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EF8D-2D20-4E25-BA7C-B17E8C8A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B68-6A69-46A8-80E5-B07BF4C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D3BA-49F4-4901-82AC-4E3FE1C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5463-41CB-43A4-BE6A-8FA23581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05CA-5A42-41C2-8C24-3E98A93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38C-683B-4F26-A3A5-7856C8F8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EFE-0404-48EC-B342-373FEA92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C094-8236-47DD-B175-4262A6D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FA8C-2607-4158-BD22-F1A6D09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7DBF-44D6-415B-A866-D82F5DA6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CD0-24DB-484A-8D7A-8F348E93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FD1-BC63-4327-AEB4-F31EFAE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71D-5968-4773-87AB-D570CB4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046-1C52-4125-8870-385C3C41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FFD-8166-4655-B79A-3B1F3C03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D75-BFF4-41AC-BB45-7D138B9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D5A-108B-4595-A68D-5E4A670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767-5B8B-4049-AEC5-B4567D3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9B91-6C05-452B-9915-3888861C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B888-9A1A-44EC-8474-E7C24E489C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llez, viens! – Level 2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hapitre 5 – Première Étap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Passé Composé en pai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 avez grossi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ATT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s ont attend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ER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 a perd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ER DE RÔ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COUR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N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Nous avons cour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METT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 avez m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SPACES!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 pai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 partenaire est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’auxiliair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’autre partenaire est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e participe passé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COMPR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 as compr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FAI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On a fait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LEU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IL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Il a pl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ÊT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 1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 ai dû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Tu as v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PRENDR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Elle a pri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AVO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J’ai eu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GROSSIR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eaeaea"/>
                </a:solidFill>
                <a:latin typeface="Verdana"/>
              </a:rPr>
              <a:t>Vous</a:t>
            </a:r>
            <a:endParaRPr b="0" lang="en-US" sz="8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0-27T20:09:12Z</dcterms:modified>
  <cp:revision>94</cp:revision>
  <dc:subject/>
  <dc:title>Allez, viens! – Level 2</dc:title>
</cp:coreProperties>
</file>